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285C-6230-4FDE-B19D-FCA93C034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5CF7-5AED-44B4-A31A-E9146141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45EF-6AE3-4237-8010-781F4423E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C44A-7040-49AD-B459-C147E06C6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7523-D1F5-4294-A98C-5A0613984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6B24-08FC-484E-BAFA-26B416FD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2950-6F4F-4879-8A95-CBC0AEFB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F679-556C-450E-A1EF-127B790A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9ECC1-9F44-42A1-AAA5-B30FC123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6918-0735-483D-B702-6A21BA49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73C48-00F6-42FF-94B8-D48E6BD0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230C-A8F7-4121-8FAA-BEC102A1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3329E-AFE5-47DF-817D-72826D57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3784-7011-4B25-B9D5-2B1D92CA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BC50-17DE-4D78-8451-06608090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CFA94-D4BE-46D1-926B-AD49CF6FE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4C73-4EB7-40A1-AB13-54B57DDC1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245A-0BB3-49D8-AA26-89297CA3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0C86-DC3D-4C29-89DD-CC2C785F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CB45-C1A0-40DD-90AC-AAD8C1EA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6D7C-EB3C-46F6-B92E-B20D8ABC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8C02-112E-4FE6-99DD-5ADB7778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0416-1E86-4FD7-AFE7-5A1E1B08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C261-5F01-412C-8161-C6E95B48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61F6-8869-4B2C-88CA-662905A3DBD2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1FFF-1476-4E06-B910-B918C8EDA51A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Kruti Dev 010 "/>
              </a:rPr>
              <a:t>vkmVjhp dk;ZdrkZ ds fy, çf’k{k.k ekM;wy vuqiwjd eSuqvy</a:t>
            </a: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4000"/>
            </a:br>
            <a:br>
              <a:rPr sz="4000"/>
            </a:br>
            <a:r>
              <a:rPr b="0" i="1" lang="en-US" sz="1800" spc="-1" strike="noStrike">
                <a:solidFill>
                  <a:srgbClr val="006666"/>
                </a:solidFill>
                <a:latin typeface="Kruti Dev 010 "/>
              </a:rPr>
              <a:t>jk"Vªh; ,M~l fu;a=.k laxBu ¼ukdks½</a:t>
            </a:r>
            <a:br>
              <a:rPr sz="1800"/>
            </a:br>
            <a:r>
              <a:rPr b="0" i="1" lang="en-US" sz="1800" spc="-1" strike="noStrike">
                <a:solidFill>
                  <a:srgbClr val="006666"/>
                </a:solidFill>
                <a:latin typeface="Kruti Dev 010 "/>
              </a:rPr>
              <a:t> LoLFk ,oa ifjokj dY;k.k ea=ky;]</a:t>
            </a:r>
            <a:br>
              <a:rPr sz="1800"/>
            </a:br>
            <a:r>
              <a:rPr b="0" i="1" lang="en-US" sz="1800" spc="-1" strike="noStrike">
                <a:solidFill>
                  <a:srgbClr val="006666"/>
                </a:solidFill>
                <a:latin typeface="Kruti Dev 010 "/>
              </a:rPr>
              <a:t> Hkkjr ljdkj 6 ,oa 9 ry] </a:t>
            </a:r>
            <a:br>
              <a:rPr sz="1800"/>
            </a:br>
            <a:r>
              <a:rPr b="0" i="1" lang="en-US" sz="1800" spc="-1" strike="noStrike">
                <a:solidFill>
                  <a:srgbClr val="006666"/>
                </a:solidFill>
                <a:latin typeface="Kruti Dev 010 "/>
              </a:rPr>
              <a:t>panzysd Hkou] 36] tuiFk] </a:t>
            </a:r>
            <a:br>
              <a:rPr sz="1800"/>
            </a:br>
            <a:r>
              <a:rPr b="0" i="1" lang="en-US" sz="1800" spc="-1" strike="noStrike">
                <a:solidFill>
                  <a:srgbClr val="006666"/>
                </a:solidFill>
                <a:latin typeface="Kruti Dev 010 "/>
              </a:rPr>
              <a:t>ubZ fnYyh&amp;110001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NACP-III </a:t>
            </a:r>
            <a:r>
              <a:rPr b="0" lang="en-US" sz="4400" spc="-1" strike="noStrike">
                <a:solidFill>
                  <a:srgbClr val="006666"/>
                </a:solidFill>
                <a:latin typeface="Kruti Dev 010 "/>
              </a:rPr>
              <a:t>ds lkaps esa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,TI </a:t>
            </a:r>
            <a:r>
              <a:rPr b="0" lang="en-US" sz="4400" spc="-1" strike="noStrike">
                <a:solidFill>
                  <a:srgbClr val="006666"/>
                </a:solidFill>
                <a:latin typeface="Kruti Dev 010 "/>
              </a:rPr>
              <a:t>dk vfHkçk;%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581280" y="-152640"/>
            <a:ext cx="510552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66"/>
                </a:solidFill>
                <a:uFillTx/>
                <a:latin typeface="Kruti Dev 010 "/>
              </a:rPr>
              <a:t>Hkkjr esa</a:t>
            </a:r>
            <a:r>
              <a:rPr b="1" lang="en-US" sz="3200" spc="-1" strike="noStrike" u="sng">
                <a:solidFill>
                  <a:srgbClr val="006666"/>
                </a:solidFill>
                <a:uFillTx/>
                <a:latin typeface="Verdana"/>
              </a:rPr>
              <a:t> HIV/AIDS </a:t>
            </a:r>
            <a:r>
              <a:rPr b="1" lang="en-US" sz="3200" spc="-1" strike="noStrike" u="sng">
                <a:solidFill>
                  <a:srgbClr val="006666"/>
                </a:solidFill>
                <a:uFillTx/>
                <a:latin typeface="Kruti Dev 010 "/>
              </a:rPr>
              <a:t>dk ifjn`’;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Kruti Dev 010 "/>
              </a:rPr>
              <a:t>&amp;</a:t>
            </a:r>
            <a:r>
              <a:rPr b="0" lang="en-US" sz="3200" spc="-1" strike="noStrike">
                <a:solidFill>
                  <a:srgbClr val="006666"/>
                </a:solidFill>
                <a:latin typeface="Kruti Dev 010 "/>
              </a:rPr>
              <a:t>20 ls 30 yk[k yksx vuqekfur </a:t>
            </a: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HIV/AIDS </a:t>
            </a:r>
            <a:r>
              <a:rPr b="0" lang="en-US" sz="3200" spc="-1" strike="noStrike">
                <a:solidFill>
                  <a:srgbClr val="006666"/>
                </a:solidFill>
                <a:latin typeface="Kruti Dev 010 "/>
              </a:rPr>
              <a:t>ds lkFk jgrs gSA &amp;172000 </a:t>
            </a: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AIDS </a:t>
            </a:r>
            <a:r>
              <a:rPr b="0" lang="en-US" sz="3200" spc="-1" strike="noStrike">
                <a:solidFill>
                  <a:srgbClr val="006666"/>
                </a:solidFill>
                <a:latin typeface="Kruti Dev 010 "/>
              </a:rPr>
              <a:t>ejhtA 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Kruti Dev 010 "/>
              </a:rPr>
              <a:t>&amp;vlkeku forj.kA 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Kruti Dev 010 "/>
              </a:rPr>
              <a:t>&amp;vf/kd laØfer {ks=A 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Kruti Dev 010 "/>
              </a:rPr>
              <a:t>&amp;fiNys 5 o"kksZ esa </a:t>
            </a: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HIV</a:t>
            </a:r>
            <a:r>
              <a:rPr b="0" lang="en-US" sz="3200" spc="-1" strike="noStrike">
                <a:solidFill>
                  <a:srgbClr val="006666"/>
                </a:solidFill>
                <a:latin typeface="Kruti Dev 010 "/>
              </a:rPr>
              <a:t> lsUVhuy &amp;losZysUl vkadMks ds vuqlkj] &amp;ftyks dks 4 [k.Mks es oxhZd`r fd;k gSA </a:t>
            </a: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140(A), 47(B), </a:t>
            </a:r>
            <a:r>
              <a:rPr b="0" lang="en-US" sz="3200" spc="-1" strike="noStrike">
                <a:solidFill>
                  <a:srgbClr val="006666"/>
                </a:solidFill>
                <a:latin typeface="Kruti Dev 010 "/>
              </a:rPr>
              <a:t>ckdh </a:t>
            </a: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en-US" sz="3200" spc="-1" strike="noStrike">
                <a:solidFill>
                  <a:srgbClr val="006666"/>
                </a:solidFill>
                <a:latin typeface="Kruti Dev 010 "/>
              </a:rPr>
              <a:t>o</a:t>
            </a: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en-US" sz="3200" spc="-1" strike="noStrike">
                <a:solidFill>
                  <a:srgbClr val="006666"/>
                </a:solidFill>
                <a:latin typeface="Kruti Dev 010 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32479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876560" y="274680"/>
            <a:ext cx="380988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HIV</a:t>
            </a: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Kruti Dev 010 "/>
              </a:rPr>
              <a:t>çlkj ds jkLrs</a:t>
            </a:r>
            <a:r>
              <a:rPr b="1" lang="en-US" sz="4400" spc="-1" strike="noStrike">
                <a:solidFill>
                  <a:srgbClr val="006666"/>
                </a:solidFill>
                <a:latin typeface="Kruti Dev 010 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6666"/>
                </a:solidFill>
                <a:latin typeface="Kruti Dev 010 "/>
              </a:rPr>
              <a:t>&amp; </a:t>
            </a:r>
            <a:r>
              <a:rPr b="0" lang="en-US" sz="3600" spc="-1" strike="noStrike">
                <a:solidFill>
                  <a:srgbClr val="ff0000"/>
                </a:solidFill>
                <a:latin typeface="Kruti Dev 010 "/>
              </a:rPr>
              <a:t>;kSu lEcU/k&amp;84-6</a:t>
            </a:r>
            <a:r>
              <a:rPr b="0" lang="en-US" sz="3600" spc="-1" strike="noStrike">
                <a:solidFill>
                  <a:srgbClr val="006666"/>
                </a:solidFill>
                <a:latin typeface="Kruti Dev 010 "/>
              </a:rPr>
              <a:t> &amp;</a:t>
            </a:r>
            <a:r>
              <a:rPr b="0" lang="en-US" sz="3600" spc="-1" strike="noStrike">
                <a:solidFill>
                  <a:srgbClr val="990099"/>
                </a:solidFill>
                <a:latin typeface="Kruti Dev 010 "/>
              </a:rPr>
              <a:t>jDr }kjk</a:t>
            </a:r>
            <a:r>
              <a:rPr b="0" lang="en-US" sz="2400" spc="-1" strike="noStrike">
                <a:solidFill>
                  <a:srgbClr val="6699ff"/>
                </a:solidFill>
                <a:latin typeface="Kruti Dev 010 "/>
              </a:rPr>
              <a:t>&amp;</a:t>
            </a:r>
            <a:r>
              <a:rPr b="0" lang="en-US" sz="3600" spc="-1" strike="noStrike">
                <a:solidFill>
                  <a:srgbClr val="006666"/>
                </a:solidFill>
                <a:latin typeface="Kruti Dev 010 "/>
              </a:rPr>
              <a:t>1-9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Kruti Dev 010 "/>
              </a:rPr>
              <a:t>&amp;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IDU-1.8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Kruti Dev 010 "/>
              </a:rPr>
              <a:t> &amp;</a:t>
            </a:r>
            <a:r>
              <a:rPr b="0" lang="en-US" sz="3600" spc="-1" strike="noStrike">
                <a:solidFill>
                  <a:srgbClr val="6699ff"/>
                </a:solidFill>
                <a:latin typeface="Kruti Dev 010 "/>
              </a:rPr>
              <a:t>tUe ls iwoZ</a:t>
            </a:r>
            <a:r>
              <a:rPr b="0" lang="en-US" sz="3600" spc="-1" strike="noStrike">
                <a:solidFill>
                  <a:srgbClr val="006666"/>
                </a:solidFill>
                <a:latin typeface="Kruti Dev 010 "/>
              </a:rPr>
              <a:t>&amp;4-3</a:t>
            </a: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Kruti Dev 010 "/>
              </a:rPr>
              <a:t>&amp;</a:t>
            </a:r>
            <a:r>
              <a:rPr b="0" lang="en-US" sz="3600" spc="-1" strike="noStrike">
                <a:solidFill>
                  <a:srgbClr val="f2dffd"/>
                </a:solidFill>
                <a:latin typeface="Kruti Dev 010 "/>
              </a:rPr>
              <a:t>ekywe ugha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-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5.6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38862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2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Kruti Dev 010 "/>
              </a:rPr>
              <a:t>Hkkjr esa ,M~l dk vk;q ds fglkc ls oxhZdj.k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1532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HIV </a:t>
            </a:r>
            <a:r>
              <a:rPr b="0" lang="en-US" sz="4000" spc="-1" strike="noStrike">
                <a:solidFill>
                  <a:srgbClr val="006666"/>
                </a:solidFill>
                <a:latin typeface="Kruti Dev 010 "/>
              </a:rPr>
              <a:t>laØe.k fofHkUu tula[;k lewg ds e/;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495252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Hkkjr esa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HIV/AIDS </a:t>
            </a: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mPp tksf[ke lewgA lsrw lewgA lkekU; tula[;k mPp tksf[ke lewg&amp;,Q0,lMCy;w] vkbZMh;w] ,e,l,e@Vhth lsrw lewg&amp;VªdlZ] çoklh etnwjA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229600" cy="34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HIV/AIDS </a:t>
            </a:r>
            <a:r>
              <a:rPr b="0" lang="en-US" sz="4400" spc="-1" strike="noStrike">
                <a:solidFill>
                  <a:srgbClr val="006666"/>
                </a:solidFill>
                <a:latin typeface="Kruti Dev 010 "/>
              </a:rPr>
              <a:t>ls çHkkfor]  laØfer yksx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495252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ore Group</a:t>
            </a: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 %mPp tksf[ke lewg&amp;,Q0,lMCy;w] vkbZMh;w] ,e,l,e@Vhth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Bridge Group</a:t>
            </a: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 lsrw lewg&amp;VªdlZ] çoklh etnwjA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042920" y="1371600"/>
            <a:ext cx="68058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Kruti Dev 010 "/>
              </a:rPr>
              <a:t>mPp tksf[ke lewg ds lkFk dk;Z djus dk egRo ¼,Q,lMCY;w½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tula[;k  </a:t>
            </a:r>
            <a:r>
              <a:rPr b="0" lang="en-US" sz="2000" spc="-1" strike="noStrike">
                <a:solidFill>
                  <a:srgbClr val="006699"/>
                </a:solidFill>
                <a:latin typeface="Kruti Dev 010 "/>
              </a:rPr>
              <a:t>25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% </a:t>
            </a:r>
            <a:r>
              <a:rPr b="0" lang="en-US" sz="2000" spc="-1" strike="noStrike">
                <a:solidFill>
                  <a:srgbClr val="006699"/>
                </a:solidFill>
                <a:latin typeface="Kruti Dev 010 "/>
              </a:rPr>
              <a:t>çHkkfor </a:t>
            </a:r>
            <a:r>
              <a:rPr b="1" lang="en-US" sz="2000" spc="-1" strike="noStrike">
                <a:solidFill>
                  <a:srgbClr val="006699"/>
                </a:solidFill>
                <a:latin typeface="Kruti Dev 010 "/>
              </a:rPr>
              <a:t>çfro"kZ</a:t>
            </a: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5867280" y="1676520"/>
            <a:ext cx="2590920" cy="434340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HIV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Kruti Dev 010 "/>
              </a:rPr>
              <a:t>/kukRed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99"/>
                </a:solidFill>
                <a:latin typeface="Kruti Dev 010 "/>
              </a:rPr>
              <a:t>lEidZ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Kruti Dev 010 "/>
              </a:rPr>
              <a:t>çfro"kZ tula[;k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Kruti Dev 010 "/>
              </a:rPr>
              <a:t>100000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2209680"/>
            <a:ext cx="1523880" cy="144792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4267080"/>
            <a:ext cx="1600200" cy="152424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2819520"/>
            <a:ext cx="3048120" cy="76176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25 % </a:t>
            </a:r>
            <a:r>
              <a:rPr b="0" lang="en-US" sz="1800" spc="-1" strike="noStrike">
                <a:solidFill>
                  <a:srgbClr val="006699"/>
                </a:solidFill>
                <a:latin typeface="Kruti Dev 010 "/>
              </a:rPr>
              <a:t>çHkkfor 40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%</a:t>
            </a:r>
            <a:r>
              <a:rPr b="0" lang="en-US" sz="1800" spc="-1" strike="noStrike">
                <a:solidFill>
                  <a:srgbClr val="006699"/>
                </a:solidFill>
                <a:latin typeface="Kruti Dev 010 "/>
              </a:rPr>
              <a:t> </a:t>
            </a:r>
            <a:r>
              <a:rPr b="1" lang="en-US" sz="1800" spc="-1" strike="noStrike">
                <a:solidFill>
                  <a:srgbClr val="006699"/>
                </a:solidFill>
                <a:latin typeface="Kruti Dev 010 "/>
              </a:rPr>
              <a:t>xzkgd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99"/>
                </a:solidFill>
                <a:latin typeface="Kruti Dev 010 "/>
              </a:rPr>
              <a:t>çfro"kZ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90920" y="5181480"/>
            <a:ext cx="3276360" cy="53352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2 % </a:t>
            </a:r>
            <a:r>
              <a:rPr b="0" lang="en-US" sz="1800" spc="-1" strike="noStrike">
                <a:solidFill>
                  <a:srgbClr val="006699"/>
                </a:solidFill>
                <a:latin typeface="Kruti Dev 010 "/>
              </a:rPr>
              <a:t>çHkkfor 12 </a:t>
            </a:r>
            <a:r>
              <a:rPr b="1" lang="en-US" sz="1800" spc="-1" strike="noStrike">
                <a:solidFill>
                  <a:srgbClr val="006699"/>
                </a:solidFill>
                <a:latin typeface="Kruti Dev 010 "/>
              </a:rPr>
              <a:t>xzkgd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99"/>
                </a:solidFill>
                <a:latin typeface="Kruti Dev 010 "/>
              </a:rPr>
              <a:t>çfro"kZ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62720" y="2971800"/>
            <a:ext cx="45720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943600" y="5028840"/>
            <a:ext cx="380880" cy="22860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66680" y="2703600"/>
            <a:ext cx="119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SW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688400" y="484992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Kruti Dev 010 "/>
              </a:rPr>
              <a:t>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38080" y="4684680"/>
            <a:ext cx="15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Kruti Dev 010 "/>
              </a:rPr>
              <a:t>,Q,lMCY;w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Kruti Dev 010 "/>
              </a:rPr>
              <a:t> </a:t>
            </a:r>
            <a:r>
              <a:rPr b="0" lang="en-US" sz="1800" spc="-1" strike="noStrike">
                <a:solidFill>
                  <a:srgbClr val="006666"/>
                </a:solidFill>
                <a:latin typeface="Kruti Dev 010 "/>
              </a:rPr>
              <a:t>ds </a:t>
            </a:r>
            <a:r>
              <a:rPr b="1" lang="en-US" sz="1800" spc="-1" strike="noStrike">
                <a:solidFill>
                  <a:srgbClr val="006699"/>
                </a:solidFill>
                <a:latin typeface="Kruti Dev 010 "/>
              </a:rPr>
              <a:t>xzkgd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Kruti Dev 010 "/>
              </a:rPr>
              <a:t>mPp tksf[ke lewg ds lkFk dk;Z djus dk egRo ¼,e,l,e ½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0769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Kruti Dev 010 "/>
              </a:rPr>
              <a:t>mPp tksf[ke lewg ds lkFk dk;Z djus dk egRo ¼ </a:t>
            </a:r>
            <a:r>
              <a:rPr b="1" lang="en-US" sz="4000" spc="-1" strike="noStrike">
                <a:solidFill>
                  <a:srgbClr val="006666"/>
                </a:solidFill>
                <a:latin typeface="Kruti Dev 010 "/>
              </a:rPr>
              <a:t>vkbZMh;w</a:t>
            </a:r>
            <a:r>
              <a:rPr b="0" lang="en-US" sz="4000" spc="-1" strike="noStrike">
                <a:solidFill>
                  <a:srgbClr val="006666"/>
                </a:solidFill>
                <a:latin typeface="Kruti Dev 010 "/>
              </a:rPr>
              <a:t> ½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78483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Kruti Dev 010 "/>
              </a:rPr>
              <a:t>lsrw lewg&amp;ds lkFk dk;Z djus dk egRo    ¼ VªdlZ] çoklh etnwj ½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Kruti Dev 010 "/>
              </a:rPr>
              <a:t>       </a:t>
            </a:r>
            <a:r>
              <a:rPr b="1" lang="en-US" sz="3200" spc="-1" strike="noStrike">
                <a:solidFill>
                  <a:srgbClr val="006699"/>
                </a:solidFill>
                <a:latin typeface="Kruti Dev 010 "/>
              </a:rPr>
              <a:t>yf{kr gLr{ksi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Kruti Dev 010 "/>
              </a:rPr>
              <a:t>   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Kruti Dev 010 "/>
              </a:rPr>
              <a:t>iq:"k</a:t>
            </a: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 </a:t>
            </a:r>
            <a:r>
              <a:rPr b="1" lang="en-US" sz="3200" spc="-1" strike="noStrike">
                <a:solidFill>
                  <a:srgbClr val="006699"/>
                </a:solidFill>
                <a:latin typeface="Kruti Dev 010 "/>
              </a:rPr>
              <a:t>xzkgd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3505320"/>
            <a:ext cx="1752840" cy="12189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SW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895480" y="2361960"/>
            <a:ext cx="4496040" cy="16002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819520" y="4038480"/>
            <a:ext cx="4572000" cy="76212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91520" y="2362320"/>
            <a:ext cx="0" cy="25905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30080" y="3514680"/>
            <a:ext cx="214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Kruti Dev 010 "/>
              </a:rPr>
              <a:t>çoklh iq:"k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048120" y="2057400"/>
            <a:ext cx="0" cy="167652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Kruti Dev 010 "/>
              </a:rPr>
              <a:t>,u-,-lh-ih&amp;3 dh le&gt;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Kruti Dev 010 "/>
              </a:rPr>
              <a:t>,u,lhih&amp;3ds  varZxr yf{kr gLr{ksi ifj;kstuk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Kruti Dev 010 "/>
              </a:rPr>
              <a:t>1&amp;dsfUnzr lsok;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Kruti Dev 010 "/>
              </a:rPr>
              <a:t>mPp tksf[ke lewg</a:t>
            </a:r>
            <a:r>
              <a:rPr b="0" lang="en-US" sz="2000" spc="-1" strike="noStrike">
                <a:solidFill>
                  <a:srgbClr val="006699"/>
                </a:solidFill>
                <a:latin typeface="Kruti Dev 010 "/>
              </a:rPr>
              <a:t>&amp;,Q0,lMCy;w] vkbZMh;w] ,e,l,e@Vhth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Kruti Dev 010 "/>
              </a:rPr>
              <a:t>lsrw lewg</a:t>
            </a:r>
            <a:r>
              <a:rPr b="0" lang="en-US" sz="2000" spc="-1" strike="noStrike">
                <a:solidFill>
                  <a:srgbClr val="006699"/>
                </a:solidFill>
                <a:latin typeface="Kruti Dev 010 "/>
              </a:rPr>
              <a:t>&amp;VªdlZ] çoklh etnwjA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Kruti Dev 010 "/>
              </a:rPr>
              <a:t>2&amp;j.kuhfr fof’k"V lsok;s mPp tksf[ke lewg ds fy,A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Kruti Dev 010 "/>
              </a:rPr>
              <a:t>&amp;Vh-vkbZ- ifj;kstuk ds ?kVd]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Kruti Dev 010 "/>
              </a:rPr>
              <a:t>dUMkse dks c&lt;+kok]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Kruti Dev 010 "/>
              </a:rPr>
              <a:t>vuqdwy okrkoj.k]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Kruti Dev 010 "/>
              </a:rPr>
              <a:t>leqnk; tqM+ko]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Kruti Dev 010 "/>
              </a:rPr>
              <a:t>lanZHku ,ao dMh LFkkiu]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Kruti Dev 010 "/>
              </a:rPr>
              <a:t>,l-Vh-vkbZ çcU/ku]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Kruti Dev 010 "/>
              </a:rPr>
              <a:t>O;ogkj ifjorZu lapkj.k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TI </a:t>
            </a:r>
            <a:r>
              <a:rPr b="1" lang="en-US" sz="4400" spc="-1" strike="noStrike">
                <a:solidFill>
                  <a:srgbClr val="006666"/>
                </a:solidFill>
                <a:latin typeface="Kruti Dev 010 "/>
              </a:rPr>
              <a:t>ds lS)kfUrd iFkn’kZd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fdlh LokLFk; fLFkfr esa ,oa fdlh tula[;k es jksdFkke lsokvks dk xzg.k vkmVfjp ij fuHkZj djrk gSA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;s misf{kr tula[;k tSls </a:t>
            </a: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,Q0,lMCy;w] vkbZMh;w] ,e,l,e@Vhth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esa vf/kd lR; gSA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jksdFkke ç;Ruks dk dsUnz vkmVfjp lefiZr lsok dk çnku tks misf{kr lewg xzg.k dj ldsA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3809880"/>
            <a:ext cx="0" cy="99072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TI </a:t>
            </a:r>
            <a:r>
              <a:rPr b="1" lang="en-US" sz="4400" spc="-1" strike="noStrike">
                <a:solidFill>
                  <a:srgbClr val="006666"/>
                </a:solidFill>
                <a:latin typeface="Kruti Dev 010 "/>
              </a:rPr>
              <a:t>dk vfHkçk;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1143000" y="2286000"/>
            <a:ext cx="2133720" cy="373392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Kruti Dev 010 "/>
              </a:rPr>
              <a:t>leqnk; }kjk]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Kruti Dev 010 "/>
              </a:rPr>
              <a:t> </a:t>
            </a:r>
            <a:r>
              <a:rPr b="1" lang="en-US" sz="1800" spc="-1" strike="noStrike">
                <a:solidFill>
                  <a:srgbClr val="006699"/>
                </a:solidFill>
                <a:latin typeface="Kruti Dev 010 "/>
              </a:rPr>
              <a:t>lqjf{kr O;ogkj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Kruti Dev 010 "/>
              </a:rPr>
              <a:t>dks c&lt;+kok]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Kruti Dev 010 "/>
              </a:rPr>
              <a:t> </a:t>
            </a:r>
            <a:r>
              <a:rPr b="1" lang="en-US" sz="1800" spc="-1" strike="noStrike">
                <a:solidFill>
                  <a:srgbClr val="006699"/>
                </a:solidFill>
                <a:latin typeface="Kruti Dev 010 "/>
              </a:rPr>
              <a:t>f’k{kk ,oa {kerk fuekZ.k]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562720" y="2209680"/>
            <a:ext cx="2971800" cy="381024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Kruti Dev 010 "/>
              </a:rPr>
              <a:t>xq.koRrk lsokvks dks c&lt;+kok]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Kruti Dev 010 "/>
              </a:rPr>
              <a:t> </a:t>
            </a:r>
            <a:r>
              <a:rPr b="1" lang="en-US" sz="1800" spc="-1" strike="noStrike">
                <a:solidFill>
                  <a:srgbClr val="006699"/>
                </a:solidFill>
                <a:latin typeface="Kruti Dev 010 "/>
              </a:rPr>
              <a:t>LokLFk; j{kk lsokvks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Kruti Dev 010 "/>
              </a:rPr>
              <a:t>ds lkFk dMh LFkkfir djuk]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Kruti Dev 010 "/>
              </a:rPr>
              <a:t>ijke’kZ]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Kruti Dev 010 "/>
              </a:rPr>
              <a:t>dUMkse vkfnA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00400" y="2819520"/>
            <a:ext cx="289548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3580920" y="5257800"/>
            <a:ext cx="251460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Kruti Dev 010 "/>
              </a:rPr>
              <a:t>   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Kruti Dev 010 "/>
              </a:rPr>
              <a:t>      </a:t>
            </a:r>
            <a:r>
              <a:rPr b="1" lang="en-US" sz="4400" spc="-1" strike="noStrike">
                <a:solidFill>
                  <a:srgbClr val="006699"/>
                </a:solidFill>
                <a:latin typeface="Kruti Dev 010 "/>
              </a:rPr>
              <a:t>Vh vkbZ ifj;kstuk ds ?kVd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Kruti Dev 010 "/>
              </a:rPr>
              <a:t>Vh-vkbZ ifj;kstuk ds eq[; dsUnz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</a:t>
            </a:r>
            <a:r>
              <a:rPr b="0" lang="en-US" sz="4000" spc="-1" strike="noStrike">
                <a:solidFill>
                  <a:srgbClr val="006699"/>
                </a:solidFill>
                <a:latin typeface="Kruti Dev 010 "/>
              </a:rPr>
              <a:t>cpko]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Kruti Dev 010 "/>
              </a:rPr>
              <a:t>&amp;laØe.k ds çxfr esa iyVko ,oa foLrkj ds lHkh Lrj esa deh]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Kruti Dev 010 "/>
              </a:rPr>
              <a:t>&amp;rF; vk/kkfjrA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Kruti Dev 010 "/>
              </a:rPr>
              <a:t>,u-,-lh-ih 3 ls çkIr f’k{kk&amp;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Vh-vkbZ- ifj;kstukvks esa deh] tksf[ke lewg ij fo’ks"k /;kuA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Vh-vkbZ ifj;kstukvks ,oa j{kk lsokvksa esa dk;ZØe dMhA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lgk;d fufj{k.k ij çcyrk dh vko’;drk% lSDl@,u-th-vks- dks lgk;rkA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lgk;rk ls l’kfDrdj.k esa j.kuhfrd LFkkukUrj.kA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Kruti Dev 010 "/>
              </a:rPr>
              <a:t>mPp tksf[ke lewg tula[;k esa vuqeku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57200" y="1600200"/>
          <a:ext cx="8229600" cy="4649760"/>
        </p:xfrm>
        <a:graphic>
          <a:graphicData uri="http://schemas.openxmlformats.org/drawingml/2006/table">
            <a:tbl>
              <a:tblPr/>
              <a:tblGrid>
                <a:gridCol w="1676520"/>
                <a:gridCol w="1981080"/>
                <a:gridCol w="2514600"/>
                <a:gridCol w="2057400"/>
              </a:tblGrid>
              <a:tr h="94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lewg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fuEu vuqeku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mPp vuqeku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888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,Q0,lMCy;w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831.1399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,250.11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036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,e,l,e@Vhth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352,1233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889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vkbZMh;w]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iq:"k]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6463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89729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88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efgyk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,00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3392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Verdana"/>
              </a:rPr>
              <a:t>TI: </a:t>
            </a:r>
            <a:r>
              <a:rPr b="0" lang="en-US" sz="4400" spc="-1" strike="noStrike">
                <a:solidFill>
                  <a:srgbClr val="006699"/>
                </a:solidFill>
                <a:latin typeface="Kruti Dev 010 "/>
              </a:rPr>
              <a:t>mPp tksf[ke lewg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4" name=""/>
          <p:cNvSpPr/>
          <p:nvPr/>
        </p:nvSpPr>
        <p:spPr>
          <a:xfrm>
            <a:off x="838080" y="2057400"/>
            <a:ext cx="1447920" cy="25146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00400" y="1905120"/>
            <a:ext cx="2971800" cy="9144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Kruti Dev 010 "/>
              </a:rPr>
              <a:t>lsok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Kruti Dev 010 "/>
              </a:rPr>
              <a:t>ijke’kZ] dUMkse ]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STI </a:t>
            </a:r>
            <a:r>
              <a:rPr b="1" lang="en-US" sz="1800" spc="-1" strike="noStrike">
                <a:solidFill>
                  <a:srgbClr val="006699"/>
                </a:solidFill>
                <a:latin typeface="Kruti Dev 010 "/>
              </a:rPr>
              <a:t>j{kk]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RT </a:t>
            </a:r>
            <a:r>
              <a:rPr b="0" lang="en-US" sz="1800" spc="-1" strike="noStrike">
                <a:solidFill>
                  <a:srgbClr val="006699"/>
                </a:solidFill>
                <a:latin typeface="Kruti Dev 010 "/>
              </a:rPr>
              <a:t>lanZHku </a:t>
            </a: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Referal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971800" y="4038480"/>
            <a:ext cx="3048120" cy="8384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Kruti Dev 010 "/>
              </a:rPr>
              <a:t>gLr{ksi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Kruti Dev 010 "/>
              </a:rPr>
              <a:t>vuqdwy okrkoj.k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Kruti Dev 010 "/>
              </a:rPr>
              <a:t>leqnk; }kjk vkmVfjp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5562720"/>
            <a:ext cx="8001000" cy="4572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324480" y="1905120"/>
            <a:ext cx="2133720" cy="358128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Kruti Dev 010 "/>
              </a:rPr>
              <a:t>mPp tksf[ke lewg&amp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Kruti Dev 010 "/>
              </a:rPr>
              <a:t>,Q0,lMCy;w]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Kruti Dev 010 "/>
              </a:rPr>
              <a:t>vkbZMh;w]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Kruti Dev 010 "/>
              </a:rPr>
              <a:t>,e,l,e@Vhth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Kruti Dev 010 "/>
              </a:rPr>
              <a:t>lsrw lewg&amp;VªdlZ]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Kruti Dev 010 "/>
              </a:rPr>
              <a:t>çoklh etnwjA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95480" y="3505320"/>
            <a:ext cx="312444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2286000"/>
            <a:ext cx="11649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Kruti Dev 010 "/>
              </a:rPr>
              <a:t>Ukkdks </a:t>
            </a:r>
            <a:r>
              <a:rPr b="1" lang="en-US" sz="1000" spc="-1" strike="noStrike">
                <a:solidFill>
                  <a:srgbClr val="006699"/>
                </a:solidFill>
                <a:latin typeface="Verdana"/>
              </a:rPr>
              <a:t>(Sacs)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Kruti Dev 010 "/>
              </a:rPr>
              <a:t>lSdl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Kruti Dev 010 "/>
              </a:rPr>
              <a:t>,uthvks@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Kruti Dev 010 "/>
              </a:rPr>
              <a:t>lh-ch-vks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Kruti Dev 010 "/>
              </a:rPr>
              <a:t>Vh-vkbZ- ifj;kstuk ds ?kVd]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Vh-vkbZ- ifj;kstuk ds ?kVd]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dUMkse dks c&lt;+kok]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vuqdwy okrkoj.k]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leqnk; tqM+ko]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jsQjy ,ao dMh LFkkiu]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,l-Vh-vkbZ çcU/ku]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O;ogkj ifjorZu lapkj.kA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(BCC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4724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Kruti Dev 010 "/>
              </a:rPr>
              <a:t>dUMkse dks c&lt;+kok&amp;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(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CONDOM PROMOTION)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çR;sd O;fDr dks tc vko’;drk gks rc d.Mkse rd igq¡p ldsA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çkFkfed j.kfufr Vh-vkbZ- ,u-th-vks ds }kjk mPp tksf[ke lewg dks eq¶r d.Mkse dk forj.kA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Kruti Dev 010 "/>
              </a:rPr>
              <a:t>&amp;f}rh; j.kfufr% </a:t>
            </a: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lkekftd foi.ku laxBuksa }kjk lkekftd foi.ku dUMkse dks c&lt;+kokA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,e-,l-,e-@Vh-th- gLr{ksi esa Vh-vkbZ- Y;wcl çnku djrs gSa ftlls laØe.k dk [krjk ?kV tkrk gS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6666"/>
                </a:solidFill>
                <a:uFillTx/>
                <a:latin typeface="Kruti Dev 010 "/>
              </a:rPr>
              <a:t>jk"Vªh; ,M~l fu;a=.k laxBu ¼ukdks½</a:t>
            </a:r>
            <a:br>
              <a:rPr sz="3800"/>
            </a:br>
            <a:r>
              <a:rPr b="1" lang="en-US" sz="3800" spc="-1" strike="noStrike">
                <a:solidFill>
                  <a:srgbClr val="006666"/>
                </a:solidFill>
                <a:latin typeface="Kruti Dev 010 "/>
              </a:rPr>
              <a:t>&amp;</a:t>
            </a:r>
            <a:r>
              <a:rPr b="0" lang="en-US" sz="3800" spc="-1" strike="noStrike">
                <a:solidFill>
                  <a:srgbClr val="006666"/>
                </a:solidFill>
                <a:latin typeface="Kruti Dev 010 "/>
              </a:rPr>
              <a:t>çFke laØe.k dh igpku 1986 esa gqbZA </a:t>
            </a:r>
            <a:br>
              <a:rPr sz="3800"/>
            </a:br>
            <a:r>
              <a:rPr b="0" lang="en-US" sz="3800" spc="-1" strike="noStrike">
                <a:solidFill>
                  <a:srgbClr val="006666"/>
                </a:solidFill>
                <a:latin typeface="Kruti Dev 010 "/>
              </a:rPr>
              <a:t>&amp;LokLFk; ,oa ifjokj dY;k.k ea=ky; }kjk %jk"Vªh; ,M~l lfefr dh LFkkiuk  A</a:t>
            </a:r>
            <a:br>
              <a:rPr sz="3800"/>
            </a:br>
            <a:r>
              <a:rPr b="0" lang="en-US" sz="3800" spc="-1" strike="noStrike">
                <a:solidFill>
                  <a:srgbClr val="006666"/>
                </a:solidFill>
                <a:latin typeface="Kruti Dev 010 "/>
              </a:rPr>
              <a:t>&amp;ukdks dk dk;Z 1992 esa çkjEHk gqvkA</a:t>
            </a:r>
            <a:br>
              <a:rPr sz="3800"/>
            </a:br>
            <a:r>
              <a:rPr b="0" lang="en-US" sz="3800" spc="-1" strike="noStrike">
                <a:solidFill>
                  <a:srgbClr val="006666"/>
                </a:solidFill>
                <a:latin typeface="Kruti Dev 010 "/>
              </a:rPr>
              <a:t>&amp;,u-,-lh-ih&amp;1%1992&amp;1997</a:t>
            </a:r>
            <a:br>
              <a:rPr sz="3800"/>
            </a:br>
            <a:r>
              <a:rPr b="0" lang="en-US" sz="3800" spc="-1" strike="noStrike">
                <a:solidFill>
                  <a:srgbClr val="006666"/>
                </a:solidFill>
                <a:latin typeface="Kruti Dev 010 "/>
              </a:rPr>
              <a:t>&amp;,u-,-lh-ih&amp;2%1999&amp;2006</a:t>
            </a:r>
            <a:br>
              <a:rPr sz="3800"/>
            </a:br>
            <a:r>
              <a:rPr b="0" lang="en-US" sz="3800" spc="-1" strike="noStrike">
                <a:solidFill>
                  <a:srgbClr val="006666"/>
                </a:solidFill>
                <a:latin typeface="Kruti Dev 010 "/>
              </a:rPr>
              <a:t>&amp;,u-,-lh-ih&amp;3%2007&amp;2012</a:t>
            </a:r>
            <a:r>
              <a:rPr b="0" lang="en-US" sz="38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3800"/>
            </a:br>
            <a:endParaRPr b="0" lang="en-US" sz="38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Kruti Dev 010 "/>
              </a:rPr>
              <a:t>leqnk; tqM+ko%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COMMUNITY MOBILIZATION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Vh-vkbZ- dk;ZØe esa leqnk; dk vksujf’kiA &amp;,d=hdj.k ,d lkFk fu.kZ; ysukA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leqnk; dk;ZØeks ds fy, txg dk fuekZ.kA &amp;leqnk; lewgks dk {kerk fuekZ.k ftlls og dk;ZØe dk viuk lds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 fofHkUu lfefr dk fuekZ.k tSls% Mh-vkbZ-lh- çcU/ku lfefr rFkk fDyfud lfefr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Kruti Dev 010 "/>
              </a:rPr>
              <a:t>lanHkZu ,oa dM+h LFkkfir djuk%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(REFFERAL &amp; LINKAGES)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lanZHku ,oa vuqxeu ds }kjk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TI </a:t>
            </a: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,oa LokLFk; lsokvks esa dMh LFkkfir djukA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lkexzh dk c&lt;+kok@forj.k tSls eq¶r dUMkse] fpduk inkFkZ] lwbZ@flfjatA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nwljs LokLF; lsokvksa ds lkFk dMh LFkkfir djuk ¼mnkgj.k Vh-ch- ,oa vkbZ-lh-Vh-lh½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lqjf{kr LFkku dh miyC/krk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Kruti Dev 010 "/>
              </a:rPr>
              <a:t>,l-Vh-vkbZ- dk çcU/ku% </a:t>
            </a:r>
            <a:br>
              <a:rPr sz="4400"/>
            </a:b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(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STI MANAGEMENT</a:t>
            </a: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,l-Vh-vkbZ- lsok;s%,d volj ftlls O;fDr vius rFkk vius lkFkh dks laØe.k ls cpk lds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,l-Vh-vkbZ lsokvks dh ;kstuk mPp tksf[ke lewg ds lax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lsoknkrk dk O;ogkj leqnk; ds çfr vknj dk gksuk pkfg,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lsokvks dh miyC/krk leqnk; ds vko’;drkuqlkj tSls jkr dks fDyfud [kqyuk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mfpr LFkkuks ij lsokvks dk gksuk tSls dh lsok ;kSu dk;Z LFky ls nwj u gks]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 fu;fer esfMdy tk¡p lqfuf’pr djsa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Kruti Dev 010 "/>
              </a:rPr>
              <a:t>vuqdwy okrkoj.k% </a:t>
            </a:r>
            <a:br>
              <a:rPr sz="4400"/>
            </a:b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(ENABLING ENVIRONMENT)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ladV çcU/ku ç.kkyh dk fuekZ.kA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çeq[k LVsdgksYMj@ lkekF;Z &lt;kapk ç.kkyh ds lkFk iSjohA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dkuwuh vf/kdkj ij f’k{kk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Kruti Dev 010 "/>
              </a:rPr>
              <a:t>O;ogkj ifjorZu lapkj.k%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(BCC)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ih;j }kjk ,u-th-vks- lgk;rkFkZ vkmVfjp ,ao O;ogkj ifjorZu lapkj.k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tksf[ke ,oa çdkj ds vuqlkj vkmVfjp ,oa lapkj.kA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,d nwljs ls vUrjoSfod lEçs"k.k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Kruti Dev 010 "/>
              </a:rPr>
              <a:t>vUr esa&amp;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Vh-vkbZ- ifj;kstuk fuEufyf[kr ij dsfUnzr gks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lHkh leqnk; lnL;ks ls fu;fer lEidZ gks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çR;sd leqnk; lnL; lgh ,oa fu;fer d.Mkse dk ç;ksx djs ,oa mudh dUMkse rd igqap gks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çR;sd dh fu;fer :i ls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TI </a:t>
            </a: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,oa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HIV </a:t>
            </a: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dh tkap gks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ftudks j{kk ,oa lgk;rk dh vko’;drk gks oks lsokvks rd igqap lds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;kSu dk;Z ds utnhd okrkoj.k lqjf{kr gks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vkbZ Mh ;w ds fy, [krjk ?kVkuk 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(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HARM REDUCTION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) </a:t>
            </a: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ç.kkyh miyC/k gks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Kruti Dev 010 "/>
              </a:rPr>
              <a:t>vkmVfjp %Vh-vkbZ- ifj;kstuk dh vk/kkjf’kyk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21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Kruti Dev 010 "/>
              </a:rPr>
              <a:t>                                             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Kruti Dev 010 "/>
              </a:rPr>
              <a:t>                                       </a:t>
            </a:r>
            <a:r>
              <a:rPr b="0" lang="en-US" sz="4000" spc="-1" strike="noStrike">
                <a:solidFill>
                  <a:srgbClr val="006666"/>
                </a:solidFill>
                <a:latin typeface="Kruti Dev 010 "/>
              </a:rPr>
              <a:t>vkmVfjp D;ksa egRoiw.kZ gS tksf[ke tula[;k ds fy,\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Hksn ,oa yk{ku tksf[ke lewgks dks dk;ZØe ,oa lsokvks dks çkIr djus es ck/kk mRiUu djrh gS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dk;ZØe ,oa lsok;s lHkh le; rFkk LFkkuks es tksf[ke lewgks dh igqap es ugh gksrs gSA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tksf[ke tula[;k okrkoj.k ds fy, u;s gksrs gS ¼cnyko ,oa foLFkkiu½ ftlls mUgsa dk;ZØe ,oa lsokvksa dk Kku ugha gksrk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;s vko’;d gS fd mUgs [krjk de djus okys lkexzh ¼dUMkse] batsD’ku½ lgh le; ij miyC/k djk;ssa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Kruti Dev 010 "/>
              </a:rPr>
              <a:t>?kVd%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vkmVfjp dk;ZdrkZ ds dk;Z%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ih;j dks u;s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HRG </a:t>
            </a: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lnL; dh igpku djus esa lgk;rk djs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HRG </a:t>
            </a: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lnL; dh vko’;drk dks igpku mls fuokj.k djus esa ih;j dh lgk;rk djsa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ih;j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HRG </a:t>
            </a: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lnL;ks dks lqjf{kr çFkkvksa ds fy, çsfjr djssa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lqfuf’pr djsa dh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HRG</a:t>
            </a: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 dks lHkh lsok;sa çkIr gksa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dUMkse fDyfud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HRG</a:t>
            </a: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 dks [krjk le&gt;kus esa enn djsa vkSj mls de djus ds mik; crk;sa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Kruti Dev 010 "/>
              </a:rPr>
              <a:t>eq[; fl)kUr%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fo’oluh;] fo’okl ik= vkmVfjp dk;ZdrkZ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ih;j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fo’oluh; xSj leqnk; lnL;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lkeqnkf;d fLFkfr ,oa vko’;drk dk Kku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mfpr le; \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mfpr LFkku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lgh mn~ns’; dh le&gt;]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[krjk ,oa tksf[ke de djsa]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leqnk; çcyrk dk fuekZ.k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Kruti Dev 010 "/>
              </a:rPr>
              <a:t>,u-,-lh-ih&amp;1%1992&amp;1997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,u-,-lh-ih&amp;1 ds mn~ns’;%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Kruti Dev 010 "/>
              </a:rPr>
              <a:t>&amp;jDr cSadks ds &lt;kaps dks c&lt;+ok nsukA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Kruti Dev 010 "/>
              </a:rPr>
              <a:t>&amp;ftyk vLirky ,oa esfMdy dkyst esa ;kSu tfur jksxks ds mipkj ds fy, vfojpuk dks fodflr djuk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Kruti Dev 010 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Kruti Dev 010 "/>
              </a:rPr>
              <a:t>&amp;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HIV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Kruti Dev 010 "/>
              </a:rPr>
              <a:t>lsUVhuy losZfyUl ç.kkyh dh 'kq:vkrA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Kruti Dev 010 "/>
              </a:rPr>
              <a:t>&amp;tkx:drk mRiUu dks dsfUnzr djrs gq, cpko gLr{ksi esa 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NGOs </a:t>
            </a:r>
            <a:r>
              <a:rPr b="0" lang="en-US" sz="2400" spc="-1" strike="noStrike">
                <a:solidFill>
                  <a:srgbClr val="006699"/>
                </a:solidFill>
                <a:latin typeface="Kruti Dev 010 "/>
              </a:rPr>
              <a:t>dks tksM+ukA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Kruti Dev 010 "/>
              </a:rPr>
              <a:t>&amp;bl dk;ZØe ds v/khu jkT; Lrj ij {kerk fodkl ,oa lHkh jkT; Lrj ,oa dsUnz 'kkflr çns’kks esa LokLFk; lSokvk;s funs’kky; ds varZxr jkT; ,M~l lsy dk fuekZ.k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Kruti Dev 010 "/>
              </a:rPr>
              <a:t>dk;ZØe lQyrk&amp; fofHkUu Lo:i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457200" y="1600200"/>
          <a:ext cx="8229600" cy="4737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dk;ZØe lsok,sa Lok:i]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leqnk; Lo:i]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çeq[k vkmVfjp\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eS fdrus yksxks ls lEidZ djrk gw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eS lEidZ gqvk 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lEcU/k LFkkfir djukA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D;k eSus lEcU/k LFkkfir fd;k\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D;k eSa O;fDr ij fo’okl d:aA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lsok;s igqapkukA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D;k eSus ,slk dk;ZØe lsok;sa igqapk;hA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D;k lso;s esjs fy, mi;qDr gSA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cpko@jksdFkke f’k{kkA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D;k eSus cpko ij f’k{kk nhA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eSa [krjs dks dSls de d:aA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373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leqnk; dks dsfUnzr djrs gq;s ;s le&gt;us esa vklkuh gksxh dh dk;ZØe dh lsok;sa 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HRG 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us yh ,oa os D;k le&gt;rs gSA 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Kruti Dev 010 "/>
              </a:rPr>
              <a:t>vkmVfjp fu;kstu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666"/>
                </a:solidFill>
                <a:latin typeface="Kruti Dev 010 "/>
              </a:rPr>
              <a:t>vkmVfjp fu;kstu ds mn~ns’;%</a:t>
            </a:r>
            <a:endParaRPr b="1" lang="en-US" sz="43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066320" y="1828440"/>
            <a:ext cx="72392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Kruti Dev 010 "/>
              </a:rPr>
              <a:t>&amp;ih;j }kjk 80%-100% fpfUgr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FSW/MSM/TG</a:t>
            </a: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06699"/>
                </a:solidFill>
                <a:latin typeface="Kruti Dev 010 "/>
              </a:rPr>
              <a:t>tula[;k rd vkmVfjp es ennA 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Kruti Dev 010 "/>
              </a:rPr>
              <a:t>&amp;ekg esa fu;fer :i lsA 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Kruti Dev 010 "/>
              </a:rPr>
              <a:t>&amp;vf/kdrj yksxks rd igqap dj </a:t>
            </a: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STI </a:t>
            </a:r>
            <a:r>
              <a:rPr b="1" lang="en-US" sz="3600" spc="-1" strike="noStrike">
                <a:solidFill>
                  <a:srgbClr val="006699"/>
                </a:solidFill>
                <a:latin typeface="Kruti Dev 010 "/>
              </a:rPr>
              <a:t>oa </a:t>
            </a: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HIV</a:t>
            </a:r>
            <a:r>
              <a:rPr b="1" lang="en-US" sz="3600" spc="-1" strike="noStrike">
                <a:solidFill>
                  <a:srgbClr val="006699"/>
                </a:solidFill>
                <a:latin typeface="Kruti Dev 010 "/>
              </a:rPr>
              <a:t> QSyko dks jksdukA</a:t>
            </a:r>
            <a:br>
              <a:rPr sz="3600"/>
            </a:b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Kruti Dev 010 "/>
              </a:rPr>
              <a:t>vkmVfjp fu;kstu ds ifj.kke%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Kruti Dev 010 "/>
              </a:rPr>
              <a:t>&amp;leqnk; lnL;ks ds la[;k ,oa LFkku ds igpku es lgk;dA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Kruti Dev 010 "/>
              </a:rPr>
              <a:t>&amp;nh?kZLrj ij :ikdu dj ;g lqfuf’pr djus ds fy, dk;ZØe vf/kd vuqikr esa leqnk; ds lnL;ks dks ykHkkfUor dj ldsA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Kruti Dev 010 "/>
              </a:rPr>
              <a:t>&amp;lw{e Lrjh; vkmVfjp çfØ;ks ls ;g lqfuf’pr djuk dh {ks= esa jg jgs vf/kd vuqikr es yksxks ls lEidZ gksA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6666"/>
                </a:solidFill>
                <a:latin typeface="Kruti Dev 010 "/>
              </a:rPr>
              <a:t>vkmVfjp QSyko lw{e ,oa nh?kZ Lrj ij</a:t>
            </a: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2388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Kruti Dev 010 "/>
              </a:rPr>
              <a:t>nh?kZ@cMs Lrj ij fu;kstu%</a:t>
            </a:r>
            <a:br>
              <a:rPr sz="4400"/>
            </a:br>
            <a:r>
              <a:rPr b="1" lang="en-US" sz="4400" spc="-1" strike="noStrike">
                <a:solidFill>
                  <a:srgbClr val="006666"/>
                </a:solidFill>
                <a:latin typeface="Kruti Dev 010 "/>
              </a:rPr>
              <a:t> </a:t>
            </a: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(MACROPLANNING )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vkjEHk esa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lHkh tksf[ke LFkyks dk ekufp=]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RG </a:t>
            </a: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tula[;k dk vuqeku]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çR;sd LFkkuks esa lsok;s fcUnqvks dk ekufp=]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lHkh çeq[k LVsdgksYMj dh lwph@ekufp=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gLr{ksi mijkUr&amp;pyu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:&gt;ku dks le&gt;us ds fy, vkadMks dk fo’ys"k.k &amp;ih;j dks çf’k{k.k }kjk lgk;rk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Kruti Dev 010 "/>
              </a:rPr>
              <a:t>lw{e Lrj ij fu;kstu% </a:t>
            </a: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(MICROPLANNING )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tula[;k ds tksf[ke O;ogkj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(vulnerability)</a:t>
            </a: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dks le&gt;uk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çR;sd yf{kr lewg dh çksQkbfyax&amp;çR;sd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HRG </a:t>
            </a: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ds tksf[ke dk voyksdu ,oa ekufp=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vko’;drk vuqlkj dUMkse dk forj.k ,oa çn’kZu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dUMkse ç;ksx esa ck/kkvksa dks ppkZ ,oa leqnk; lewg lgk;rk ls nwj djuk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vuqxeu ,oa lanHkZu lsok çnku djuk ¼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TI,</a:t>
            </a: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 flQfyl] Vh-ch-]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HIV</a:t>
            </a: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 j{kk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ladV ds le; lsokvks dh miyC/krk ftlls tksf[ke de gks ,oa lgk;d okrkoj.k dk fuekZ.k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çR;sd LFky ij fu;fer :i ls u;s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HRG </a:t>
            </a: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dk igpku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Kruti Dev 010 "/>
              </a:rPr>
              <a:t>visf{kr ifj.kke%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dkjxj ,oa DokfyVh lsok;sa lHkh LFkyks  ij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ih;j dk {kerk fuekZ.k ,oa l’kfDrdj.k ftlls og çR;sd LFkkuks ij dk;Z dh ;kstuk cuk lds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ih;j dks leqnk; ds çfr ftEesnkj ,oa mRrjnk;h cukuk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vius deh;ks dks fujUrj ns[ks vkSj nh?kZ rFkk lw{e Lrj ij dk;ZØe esa lq/kkj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 ih;j ,oa leqnk; lnL;ks dks volj çnku djuk dh og ns[ks dh vkmVfjp ,oa lsokvks dh D;k leL;k;sa gSa tks dHkh dHkh deZpkjh dh le&gt; esa ugh vkrh gSa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Kruti Dev 010 "/>
              </a:rPr>
              <a:t>leqnk; }kjk vkmVjhp dh egRoiw.kZrk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Kruti Dev 010 "/>
              </a:rPr>
              <a:t>leqnk; }kjk vkmVjhp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457200" y="1600200"/>
          <a:ext cx="8229600" cy="4456080"/>
        </p:xfrm>
        <a:graphic>
          <a:graphicData uri="http://schemas.openxmlformats.org/drawingml/2006/table">
            <a:tbl>
              <a:tblPr/>
              <a:tblGrid>
                <a:gridCol w="1219320"/>
                <a:gridCol w="7010280"/>
              </a:tblGrid>
              <a:tr h="148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la[;k ,oa dojst dk çkIr djuk</a:t>
                      </a:r>
                      <a:endParaRPr b="0" lang="en-US" sz="3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48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xq.koRrk es lq/kkj</a:t>
                      </a:r>
                      <a:endParaRPr b="0" lang="en-US" sz="3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4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leqnk; es </a:t>
                      </a:r>
                      <a:r>
                        <a:rPr b="1" lang="en-US" sz="32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fpjLFkk;h</a:t>
                      </a:r>
                      <a:endParaRPr b="0" lang="en-US" sz="3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66"/>
                </a:solidFill>
                <a:latin typeface="Kruti Dev 010 "/>
              </a:rPr>
              <a:t>,u-,-lh-ih&amp;2%1999&amp;2006</a:t>
            </a:r>
            <a:endParaRPr b="0" lang="en-US" sz="4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Kruti Dev 010 "/>
              </a:rPr>
              <a:t>,u-,-lh-ih&amp;2 ds mn~ns’;%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</a:t>
            </a: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Hkkjr esa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HIV </a:t>
            </a: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laØe.k ds QSyko es deh ykuk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HIV/AIDS</a:t>
            </a: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 ds tokc esa Hkkjr dh {kerk dks yEcs le; rd çcy nsuk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Kruti Dev 010 "/>
              </a:rPr>
              <a:t>dSls 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457200" y="1600200"/>
          <a:ext cx="8229600" cy="4606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la[;k ,oa dojst dk çkIr djuk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xq.koRrk es lq/kkj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fpjLFkk;h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HIV </a:t>
                      </a: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gLr{ksi dks leqnk; dh çkFkfedrk cuk;Sa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bdf=r eksyHkko 'kfDr dks çcyrk nsukA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çR;sd lnL; drZO;ks dks ckVsa gLr{ksi dks laxzfgr ,oa Øfer djus ds fy,A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leqnk; es tqM+ko mRiUu djs ftlls og vius drZO;ks dks ckaV lds vkSj muds lkFkh lsok;s xzg.k dj ldsA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leqnk; nkc lewg dh Hkwfedk fuHkk;s xq.koRrk fu;a=.k ds fy, u fd dsoy ykHkkFkhZ cus jgsA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leqnk; lfØ; igy ys lalk/kuks dks tksMus ds fy,A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Kruti Dev 010 "/>
              </a:rPr>
              <a:t>D;kas ih;j }kjk vkmVjhp% </a:t>
            </a:r>
            <a:br>
              <a:rPr sz="3600"/>
            </a:br>
            <a:r>
              <a:rPr b="0" lang="en-US" sz="3500" spc="-1" strike="noStrike">
                <a:solidFill>
                  <a:srgbClr val="006666"/>
                </a:solidFill>
                <a:latin typeface="Kruti Dev 010 "/>
              </a:rPr>
              <a:t>;g ekuk tkrk gS fd ;g fLFkj ,oa  dkjxj Vwy gS ftlls O;fDr@lewg ds O;ogkj dks ifjofrZr fd;k tk ldrk gSA </a:t>
            </a:r>
            <a:br>
              <a:rPr sz="3500"/>
            </a:br>
            <a:r>
              <a:rPr b="0" lang="en-US" sz="3500" spc="-1" strike="noStrike">
                <a:solidFill>
                  <a:srgbClr val="006666"/>
                </a:solidFill>
                <a:latin typeface="Kruti Dev 010 "/>
              </a:rPr>
              <a:t>&amp;;s fo’okl fuekZ.k ,oa çek.k LFkkfir djus esa lgk;d gSA </a:t>
            </a:r>
            <a:br>
              <a:rPr sz="3500"/>
            </a:br>
            <a:r>
              <a:rPr b="0" lang="en-US" sz="3500" spc="-1" strike="noStrike">
                <a:solidFill>
                  <a:srgbClr val="006666"/>
                </a:solidFill>
                <a:latin typeface="Kruti Dev 010 "/>
              </a:rPr>
              <a:t>&amp;;s leqnk; rFkk ifj;kstuk dk;ZdrkZ ds chp esa nksuks rjQ ls dMh cukrk gSA </a:t>
            </a:r>
            <a:br>
              <a:rPr sz="3500"/>
            </a:br>
            <a:r>
              <a:rPr b="0" lang="en-US" sz="3500" spc="-1" strike="noStrike">
                <a:solidFill>
                  <a:srgbClr val="006666"/>
                </a:solidFill>
                <a:latin typeface="Kruti Dev 010 "/>
              </a:rPr>
              <a:t>&amp;leqnk; dks egRoiw.kZ lwpuk çnku djrk gSA dkjxkj rjhds ls vf/kd la[;k esa yksxks rd igqap ldrs gSaA </a:t>
            </a:r>
            <a:br>
              <a:rPr sz="3500"/>
            </a:br>
            <a:r>
              <a:rPr b="0" lang="en-US" sz="3500" spc="-1" strike="noStrike">
                <a:solidFill>
                  <a:srgbClr val="006666"/>
                </a:solidFill>
                <a:latin typeface="Kruti Dev 010 "/>
              </a:rPr>
              <a:t>&amp;leqnk; ,oa lsokvksa ds chp dMh cukrk gSA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Kruti Dev 010 "/>
              </a:rPr>
              <a:t>vkmVjhp fu;kstu ds rRo]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006666"/>
                </a:solidFill>
                <a:latin typeface="Kruti Dev 010 "/>
              </a:rPr>
              <a:t>ih;j ,twdsVj </a:t>
            </a:r>
            <a:r>
              <a:rPr b="1" lang="en-US" sz="4000" spc="-1" strike="noStrike">
                <a:solidFill>
                  <a:srgbClr val="006666"/>
                </a:solidFill>
                <a:latin typeface="Kruti Dev 010 "/>
              </a:rPr>
              <a:t>dsUnz </a:t>
            </a:r>
            <a:r>
              <a:rPr b="0" lang="en-US" sz="4000" spc="-1" strike="noStrike">
                <a:solidFill>
                  <a:srgbClr val="006666"/>
                </a:solidFill>
                <a:latin typeface="Kruti Dev 010 "/>
              </a:rPr>
              <a:t>es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30592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Kruti Dev 010 "/>
              </a:rPr>
              <a:t>ih;j ,twdsVj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Kruti Dev 010 "/>
              </a:rPr>
              <a:t>ih;j ,twdsVj dkSu gks ldrk gSA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dk;ZØe ds y{; ,oa mn~ns’; ds çfr lefiZr gksA &amp;le;uqlkj dk;ZØe esa miyC/k gks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leqnk; dk çfrfuf/k gks vkSj mldh ekU;rk gksA LFkkuh; çdj.k ,oa LFkyks dk Kku gks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leqnk; ds laLdkj ds çfr laosnu’khy gksA viuh leqnk; ds çfr mRrjnkf;Rork dks le&gt;sA \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nwljks ds lq&gt;kko ,oa O;ogkj ds çfr vknj ,oa lgu’khy gks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/;ku nsuk lapkj.k ,oa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IPC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dkS’ky gks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vkn’kZ ik= cuus dh laHkkouk gksA ny esa lh[kus ,oa ç;ksx djus dh bPNk gks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Kruti Dev 010 "/>
              </a:rPr>
              <a:t>ih;j ,twdsVj ds D;k çeq[k drZO; gSA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u;s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RG</a:t>
            </a: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 leqnk; dh igpkuA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vius yf{kr lewg ls 15 fnu es de ls de ,d ckj feysA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mPp tksf[ke O;ogkj] dUMkse ç;ksx ,oa eksyHkko]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(Negotiation)</a:t>
            </a: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TI </a:t>
            </a: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dh igpku dks le&gt;us o voyksdu djus es leqnk; lnL;ks dk dkS’ky fuekZ.k djuk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Kruti Dev 010 "/>
              </a:rPr>
              <a:t>ih;j ,twdsVj dk pquko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mPp vkmVfjp ds fy, ;s lqfuf’pr djs dh fuEufyf[kr dk gksuk vko’;d gS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leqnk; lnL;ks ds lewgks ds lkFk fu;fer lEidZ gks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1%60 vuqikr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SW/MSM/TG </a:t>
            </a: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gLr{ksi ds fy,A 1%40 vuqikr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DU </a:t>
            </a: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gLr{ksi ds fy,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1%500 vuqikr ¼LoSfPNd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(VPL)</a:t>
            </a: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ih;j usrk½ ekbZxzsUV gLr{ksi ds fy,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leqnk; dk çfrfuf/k gks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leqnk; es lgefr ls pquko gks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Kruti Dev 010 "/>
              </a:rPr>
              <a:t>ih;j ds pquko dh çfØ;k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,u-,-lh-ih&amp;3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Vh-vkbZ- ekxZ funsZf’kdk [k.M 3-2-2-1-3 lwfpr fu;e ds vk/kkj ij mEehnokj dh Js.kh cuk;s ,oa ekewyh baVjO;w djsA &amp;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ORW </a:t>
            </a: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dh enn ls lEidZ ekufp= vH;kl djs tkuus ds fy, lEHkkfor mEehnokj dk lkekftd tku igpku fdruh gSA ;s Hkh tkus dh og leqnk; ds lkFk mldh fdruh igpku gS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ih;j ls çkIr lwph ls lkjs laEidksZ dk voyksdu djsA ppkZ djds ;g le&gt;s dh dgk ,d O;fDr nks ih;j lwph es fpfUgr gSA muls irk djs fd dkSu bldks vPNh rjg ls tkurk gS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Kruti Dev 010 "/>
              </a:rPr>
              <a:t>fiNys Øe esa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çR;sd lEHkkfor ih;j ls vius laEidksZ dks ifj;kstuk fDyfud es ykus dks dgsA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muls ppkZ djds fu/kkZfjr djs dh oks bUgs ih;j cukus es bPNqd gSA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ppkZ djds leqnk; lnL; dks ih;j ls ijs’kkuh gS rks og ifj;kstuk dk;kZy; esa lEidZ dj ldrs gSA &amp;mij fn;s x;s lEefr ls ih;j dk pquko djsA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Kruti Dev 010 "/>
              </a:rPr>
              <a:t>ih;j }kjk vkmVjhp dks çcyrkA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ORW </a:t>
            </a: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fuEufyf[kr dks lqfuf’pr djs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fofHkUu dk;Z djus ds fy, ih;j dh {kerk fuekZ.k djsaA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fu;fer lIrkfgd cSBd dk vk;kstu çxfr vkSj leL;k tkuus ds fy, ih;j dh enn djs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 og {ks= Lrj dh lwpuk çnku djs ftlls dk;ZØe fu;kstu es lgk;rk feysA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tksf[ke LFky Lrj ij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RG</a:t>
            </a: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 cSBd dj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Kruti Dev 010 "/>
              </a:rPr>
              <a:t>jk"Vªh; ,M~l fu;a=.k uhfr 2002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IV</a:t>
            </a: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 dks u dsoy LokLFk; leL;k ijUrq fodkl dh leL;k le&gt;k x;kA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uhfr ds mn~ns’; %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IV</a:t>
            </a: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 dks vf/kd c&lt;us ls jksdukA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IV</a:t>
            </a: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 ds çHkko dks turk ,oa LokLFk; rFkk lkekftd] vkfFkZd ç.kkyh ij de djuk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IV</a:t>
            </a: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 dks vU; lekurk jk"Vªh; dk;ZØeks ¼Vh-ch- vkj-lh-,p] ih-,p-lh ç.kkyh½ ds lkFk ,dkd`r djukA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Kruti Dev 010 "/>
              </a:rPr>
              <a:t>vkmVjhp dk;ZdrkZ dh Hkwfedk rFkk drZO;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Kruti Dev 010 "/>
              </a:rPr>
              <a:t>vkmVjhp dk;ZdrkZ dh Hkwfedk 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ih;j dks fØ;k fu;kstu ,oa vkmVfjp es lgk;rk çnku djukA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nh xbZ lsokvks dh xq.koRrk fuxjkuh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 eq[; dk;ZØeks ds vk;kstu es lgk;rk ,oa lalk/ku çnku djukA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ifj;kstuk ih;j ds chp fØ;k dks leUo; çnku djuk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Kruti Dev 010 "/>
              </a:rPr>
              <a:t>vkmVjhp dk;ZdrkZ ds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006666"/>
                </a:solidFill>
                <a:latin typeface="Kruti Dev 010 "/>
              </a:rPr>
              <a:t>drZO;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lqfuf’pr djs fd ih;j dkjxj rjhds ls dk;Z dj jgk gS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ih;j ds çxfr ls lEcfU/kr leL;kvks dks le&gt;uk ,oa dk;ZØe çcU/kd@lSdl@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SU </a:t>
            </a: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vf/kdkfj;ks dh lgk;rk ls mldk fuokj.k djuk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 f}rh; LVsdgksYMj ds lax fu;fer lEidZ dh ç.kkyh LFkkfir djuk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tksf[ke LFky ij fu;fer Hkze.k ,oa ih;j dks {ks= lgk;rk çnku djuk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;kSu LokLFk; ,oa leqnk; ds lkekftd dY;k.k dh lwpuk çnku djuk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ORW </a:t>
            </a:r>
            <a:r>
              <a:rPr b="1" lang="en-US" sz="4400" spc="-1" strike="noStrike">
                <a:solidFill>
                  <a:srgbClr val="006666"/>
                </a:solidFill>
                <a:latin typeface="Kruti Dev 010 "/>
              </a:rPr>
              <a:t>ds fo’ks”</a:t>
            </a:r>
            <a:r>
              <a:rPr b="1" lang="en-US" sz="4400" spc="-1" strike="noStrike">
                <a:solidFill>
                  <a:srgbClr val="006666"/>
                </a:solidFill>
                <a:latin typeface="Walkman-Chanakya-901"/>
              </a:rPr>
              <a:t>"krk@dkS'ky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HRG</a:t>
            </a: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 ds lkFk dke djus dk bPNqd ,oa muds çfr xyr /kkj.kk dk uk gksukA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leqnk; tqMko çfØ;kvks dh csgrj le&gt;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RG </a:t>
            </a: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ds lkFk dk;Z djus dk iwoZ vuqHko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LFkkuh; Hkk"kk dk KkuA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fufoZgu dkS’k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Kruti Dev 010 "/>
              </a:rPr>
              <a:t>Vh-vkbZ- ifj;kstuk esa ekuo lalk/ku &amp; Hkwfedk ,oa drZO;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Kruti Dev 010 "/>
              </a:rPr>
              <a:t>dk;ZØe çcU/kd%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ifj;kstuk ny dk ekxZn’kZd] Vh-vkbZ- dk :ikdu ,oa fØ;kUouA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çxfr lwpd ds vuqlkj leqnk; dks lHkh lsok;s lqfuf’pr djsA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mi;qDr ifj;kstuk çcU/ku ;kstuk dk fodkl djs ,oa de ykxr fØ;kUou lqfuf’pr djsA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Vh-vkbZ- ds lHkh Hkko ds vuqlkj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MIS </a:t>
            </a: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dk fodkl djs ftlls ifj;kstuk ds çxfr dh fujUr fuxjkuh lEHko gks lds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Kruti Dev 010 "/>
              </a:rPr>
              <a:t>Øe esa@ifj;kstuk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aifj;kstuk dh =Sekfld vko’;drk ds vuqlkj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ORW </a:t>
            </a: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,oa dkmUlyj ds fy, çxfr lwpd ds vuqlkj lkIrkfgd dk;Z ;kstuk fodflr djs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çR;sd çLrkfor fØ;kvks es deh dh igpku ds fy, lkIrkfgd@ekfld cSBd vk;ksftr djs vkSj lgh ;kstuk cuk;s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çeq[k LVsdgksYMj ds lkFk vPNs lEcU/k cuk;s ¼LokLFk; vf/kdkjh] Msidw] leku dY;k.k foHkkx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ifj;kstuk dk;ZdrkZ ,oa vU; LVsdgksYMjks ds lkFk Vh-vkbZ ds çxfr dh fu;fer leh{kk djs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{ks= Hkze.k djs ,oa tksf[ke LFkyks es cSBdks es Hkkx ys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Kruti Dev 010 "/>
              </a:rPr>
              <a:t>ijke’kZnkrk 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(</a:t>
            </a:r>
            <a:r>
              <a:rPr b="1" lang="en-US" sz="4400" spc="-1" strike="noStrike">
                <a:solidFill>
                  <a:srgbClr val="006666"/>
                </a:solidFill>
                <a:latin typeface="Kruti Dev 010 "/>
              </a:rPr>
              <a:t>dkmUlyj</a:t>
            </a: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)</a:t>
            </a:r>
            <a:r>
              <a:rPr b="1" lang="en-US" sz="4400" spc="-1" strike="noStrike">
                <a:solidFill>
                  <a:srgbClr val="006666"/>
                </a:solidFill>
                <a:latin typeface="Kruti Dev 010 "/>
              </a:rPr>
              <a:t>%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Kruti Dev 010 "/>
              </a:rPr>
              <a:t>&amp;tks O;fDr [krjs@tksf[ke es gS mls cpko ijke’kZnkrk  çnku djsaA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Kruti Dev 010 "/>
              </a:rPr>
              <a:t>&amp;tksf[ke dks le&gt;s tks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HRG </a:t>
            </a:r>
            <a:r>
              <a:rPr b="0" lang="en-US" sz="2400" spc="-1" strike="noStrike">
                <a:solidFill>
                  <a:srgbClr val="006699"/>
                </a:solidFill>
                <a:latin typeface="Kruti Dev 010 "/>
              </a:rPr>
              <a:t>ds lekt ,oa ;kSudk;Z ls tqMk gSA rFkk lqjf{kr ;kSu dk;Z] lqjf{kr batsD’ku dks c&lt;kok nsA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Kruti Dev 010 "/>
              </a:rPr>
              <a:t>&amp;vU; lsok;sa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TI</a:t>
            </a:r>
            <a:r>
              <a:rPr b="0" lang="en-US" sz="2400" spc="-1" strike="noStrike">
                <a:solidFill>
                  <a:srgbClr val="006699"/>
                </a:solidFill>
                <a:latin typeface="Kruti Dev 010 "/>
              </a:rPr>
              <a:t> fDyfud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CTC, PPTCT, CCC, ART</a:t>
            </a:r>
            <a:r>
              <a:rPr b="0" lang="en-US" sz="2400" spc="-1" strike="noStrike">
                <a:solidFill>
                  <a:srgbClr val="006699"/>
                </a:solidFill>
                <a:latin typeface="Kruti Dev 010 "/>
              </a:rPr>
              <a:t> dsUnzks ds lkFk dMh LFkkfir djs vkSj j{kk ,oa lgk;rk lsokvks dk Hkkx cus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Kruti Dev 010 "/>
              </a:rPr>
              <a:t>&amp;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HRG </a:t>
            </a:r>
            <a:r>
              <a:rPr b="0" lang="en-US" sz="2400" spc="-1" strike="noStrike">
                <a:solidFill>
                  <a:srgbClr val="006699"/>
                </a:solidFill>
                <a:latin typeface="Kruti Dev 010 "/>
              </a:rPr>
              <a:t>dks u;s lqjf{kr O;ogkjks tSls lgh ,oa fujUrj d.Mkse ç;ksx ds fy, l’kDr djs ,oa LokLFk; lsok ysus ds O;ogkj dks c&lt;+k;sA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Kruti Dev 010 "/>
              </a:rPr>
              <a:t>&amp;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HRG</a:t>
            </a:r>
            <a:r>
              <a:rPr b="0" lang="en-US" sz="2400" spc="-1" strike="noStrike">
                <a:solidFill>
                  <a:srgbClr val="006699"/>
                </a:solidFill>
                <a:latin typeface="Kruti Dev 010 "/>
              </a:rPr>
              <a:t> dks &gt;xMk lqy&gt;kus ladV fLFkfr ls mcjus esa lgk;rk djsA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Kruti Dev 010 "/>
              </a:rPr>
              <a:t>&amp;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HRG </a:t>
            </a:r>
            <a:r>
              <a:rPr b="0" lang="en-US" sz="2400" spc="-1" strike="noStrike">
                <a:solidFill>
                  <a:srgbClr val="006699"/>
                </a:solidFill>
                <a:latin typeface="Kruti Dev 010 "/>
              </a:rPr>
              <a:t> dh {kerk fuekZ.k djs ftlls lgh ,oa fujUrj dUMkse ç;ksx gks ,oa ç;ksx dh xbZ lwbZ@flfjtks dk lqjf{kr fuiVku gksA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Kruti Dev 010 "/>
              </a:rPr>
              <a:t>&amp;vkmVfjp ny dks Qksyksvi djus ds fy,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HRG</a:t>
            </a:r>
            <a:r>
              <a:rPr b="0" lang="en-US" sz="2400" spc="-1" strike="noStrike">
                <a:solidFill>
                  <a:srgbClr val="006699"/>
                </a:solidFill>
                <a:latin typeface="Kruti Dev 010 "/>
              </a:rPr>
              <a:t> ds ukeks dh lwph rFkk lq&gt;ko çnku djsa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Kruti Dev 010 "/>
              </a:rPr>
              <a:t>MkDVj ¼ikVZ VkbZe½ çsÝjM lsoknkrk%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lkekU;]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TI </a:t>
            </a: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,oa voljonh laØe.k dk mipkj çnku djsa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ejht dk tksf[ke bfrgkl ys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vUos"k.k ,oa lanZHku dh lykgA lkFkh dh igpku ,oa ejht ds vuqxeu ds fy, çsfjr djsa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fDyfud çcU/ku lfefr es Hkkx ys ,oa fDyfud lsok;sa çnku djus es leqnk; ds lq&gt;koks dks la;qDr djs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yf{kr tula[;k dks fofHkUu çdkj ds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TI </a:t>
            </a: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,oa iwjs bykt ds ckjs esa Kku nsa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Kruti Dev 010 "/>
              </a:rPr>
              <a:t>ih;j  ,twdsVj ds drZO;%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O;ogkj ifjorZu lapkj.k rFkk laokn vk/kkfjr l= vk;ksftr djs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iqfyl ,ao dksBk ekfydu ds lkFk iSjoh djs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HRG </a:t>
            </a: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dks dUMkse] Y;wCt+ rFkk lkQ lqbZ@flfjt çnku djsa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ifj;kstuk {ks= esa dUMkse fMiks es fujUrj dUMkse Hkjs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ifj;kstuk dk;Z ds fy,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HRG</a:t>
            </a: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 dks tksM+s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ifj;kstuk lEcfU/kr fØ;kvks esa Hkkx ysaA bu lsaVj dh ns[kHkky djsa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66"/>
                </a:solidFill>
                <a:latin typeface="Kruti Dev 010 "/>
              </a:rPr>
              <a:t>,u-,-lh-ih&amp;3%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Kruti Dev 010 "/>
              </a:rPr>
              <a:t>y{;&amp; vxys ik¡p o"kksZ esa Hkkjr esa jksx dks jksduk ,oa iyVkukA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Kruti Dev 010 "/>
              </a:rPr>
              <a:t>,u-,-lh-ih-&amp;3 ds mn~ns’;%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Kruti Dev 010 "/>
              </a:rPr>
              <a:t>&amp;u;s laØe.k dk cpko ¼,p-vkj-th- QSyko dks ifjiw.kZ djuk ,oa gLr{ksi dks lkekU; tula[;k rd igqapkuk½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Kruti Dev 010 "/>
              </a:rPr>
              <a:t>&amp;vf/kd vuqikr esa PLHIV dks j{kk] lgk;rk ,oa mipkj nsuk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Kruti Dev 010 "/>
              </a:rPr>
              <a:t>&amp;jk"Vªh;] jkT; ,oa ftyk Lrj ij {kerk ij çcyrk nsuk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Kruti Dev 010 "/>
              </a:rPr>
              <a:t>&amp;j.kuhfrd lwpuk çcU/ku ç.kkfy;ks dk fuekZ.k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Kruti Dev 010 "/>
              </a:rPr>
              <a:t>Øe esa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lqfuf’pr djs ds fcuk ck/kk ds fDyfud lsok;sa çnku gksaA ¼LokLFk; f’kfoj]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STI </a:t>
            </a: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fDyfud½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TI </a:t>
            </a: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dk iwjk bykt lqfuf’pr djs vkSj nqckjk laØe.k dk vuqxeu djs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ORW </a:t>
            </a: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rFkk vkmVfjp ny dks mi;qDr j.kfufr ,oa iSjoh okrkoj.k cukus esa leUo; LFkkfir djs ftlls Vh-vkbZ dk lQyrkiwoZd fØ;kUo;u yf{kr {ks= es gks ldsA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nSfud vk[;k cukdj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ORW </a:t>
            </a: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dks çLrqr djsaA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Kruti Dev 010 "/>
              </a:rPr>
              <a:t>,dkmUVsUV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Kruti Dev 010 "/>
              </a:rPr>
              <a:t>&amp; </a:t>
            </a:r>
            <a:r>
              <a:rPr b="0" lang="en-US" sz="2400" spc="-1" strike="noStrike">
                <a:solidFill>
                  <a:srgbClr val="006699"/>
                </a:solidFill>
                <a:latin typeface="Kruti Dev 010 "/>
              </a:rPr>
              <a:t>lS)kfUrd ,dkmfUVax çFkk ds vuqlkj vdkmUV dh fdrkc cuk;s tSls] dS’k fdrkc] ysatj] cSad fdrkcA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Kruti Dev 010 "/>
              </a:rPr>
              <a:t>&amp;;g lqfuf’pr djs dh og mi;qDr lgk;rk ns ,oa gj fØ;k  dh ysu nsu dh tkap djs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Kruti Dev 010 "/>
              </a:rPr>
              <a:t>&amp;Hkqxrku dh tkap djs vkSj ns[ksa dh HkqxrkudrkZ dk fooj.k lgh gSA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Kruti Dev 010 "/>
              </a:rPr>
              <a:t>&amp;lqfuf’pr djs dh çR;sd Hkqxrku O;; [k.M es ntZ gksA çfrfnu [kpZs ds  fy, isV~Vh dS’k laHkkys vkSj lqfuf’pr djas dh dS’k dh frtksjh lgh laj{krk esa gSA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Kruti Dev 010 "/>
              </a:rPr>
              <a:t>&amp;lqfuf’pr djs dh lHkh ,Mokal iaftdk esa nZt gksA tkap djs dh lHkh okmpj ds lkFk lgk;d nLrkost ;k iDdk fcy yxk gks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5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FSW </a:t>
            </a:r>
            <a:r>
              <a:rPr b="0" i="1" lang="en-US" sz="2400" spc="-1" strike="noStrike">
                <a:solidFill>
                  <a:srgbClr val="006699"/>
                </a:solidFill>
                <a:latin typeface="Kruti Dev 010 "/>
              </a:rPr>
              <a:t>,oa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MSM/TG</a:t>
            </a:r>
            <a:r>
              <a:rPr b="0" i="1" lang="en-US" sz="2400" spc="-1" strike="noStrike">
                <a:solidFill>
                  <a:srgbClr val="006699"/>
                </a:solidFill>
                <a:latin typeface="Kruti Dev 010 "/>
              </a:rPr>
              <a:t> ifj;kstuk ftudk y{; 800 ls de gS ogk ,dkmUVsUV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M&amp;E </a:t>
            </a:r>
            <a:r>
              <a:rPr b="0" i="1" lang="en-US" sz="2400" spc="-1" strike="noStrike">
                <a:solidFill>
                  <a:srgbClr val="006699"/>
                </a:solidFill>
                <a:latin typeface="Kruti Dev 010 "/>
              </a:rPr>
              <a:t>vf/kdkjh dh Hkwfedk Hkh fuHkkrk gSA</a:t>
            </a:r>
            <a:r>
              <a:rPr b="0" lang="en-US" sz="2400" spc="-1" strike="noStrike">
                <a:solidFill>
                  <a:srgbClr val="006699"/>
                </a:solidFill>
                <a:latin typeface="Kruti Dev 010 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M&amp;E </a:t>
            </a:r>
            <a:r>
              <a:rPr b="1" lang="en-US" sz="4400" spc="-1" strike="noStrike">
                <a:solidFill>
                  <a:srgbClr val="006666"/>
                </a:solidFill>
                <a:latin typeface="Kruti Dev 010 "/>
              </a:rPr>
              <a:t>vf/kdkjh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I </a:t>
            </a: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ds çxfr ¼dk;ZØe ,oa foRrh;½ lwpuk dks laxzfgr dj ckaVukA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le; ij lwpuk dk mi;qDr çi=ks esa laxzg.k ,oa fo’ys"k.k vk[;k dk fuekZ.kA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MIS </a:t>
            </a: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çi=ks dks lSdl es le; ls igaqpkukA bZesy ;k Mkd@Lo;a }kjk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I </a:t>
            </a: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ds fofHkUu ?kVd dk fo’ys"k.k vk[;k dk fuekZ.k rFkk gLr{ksi ds çxfr ij lq&gt;ko nsuk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Kruti Dev 010 "/>
              </a:rPr>
              <a:t>vkmVjhp fu;kstu] fØ;kUo;u ,oa fuxjkuh ds VwyA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Kruti Dev 010 "/>
              </a:rPr>
              <a:t>vkmVjhp fu;kstu dh egRoiw.kZrkA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O;fDrxr ;kstuk ,oa Qksyksvi dks c&lt;+kok nsrkk gSA &amp;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RG </a:t>
            </a: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ds O;fDrxr tksf[ke ,oa [krjs dh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çksQkbZ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LFkku dk n`f"Vxr fp= çnku djrk gS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 nksuks vlk{kj ,ao lk{kj ih;j ds fy,A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leL;k {ks=ks dh igpku ,oa fuxjkuh djus esa lgk;d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Kruti Dev 010 "/>
              </a:rPr>
              <a:t>vkmVjhp fu;kstu dh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006666"/>
                </a:solidFill>
                <a:latin typeface="Kruti Dev 010 "/>
              </a:rPr>
              <a:t>lajpuk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3581280" y="1828800"/>
            <a:ext cx="2286000" cy="9144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Kruti Dev 010 "/>
              </a:rPr>
              <a:t>dk;ZØe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Kruti Dev 010 "/>
              </a:rPr>
              <a:t>çcU/k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581280" y="3200400"/>
            <a:ext cx="2210040" cy="8380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Kruti Dev 010 "/>
              </a:rPr>
              <a:t>vkmVfjp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Kruti Dev 010 "/>
              </a:rPr>
              <a:t>dk;ZdrkZ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62120" y="4648320"/>
            <a:ext cx="1295280" cy="99036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Kruti Dev 010 "/>
              </a:rPr>
              <a:t>ih;j 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Kruti Dev 010 "/>
              </a:rPr>
              <a:t>,twdsVj&amp;1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743200" y="4648320"/>
            <a:ext cx="1371600" cy="99036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Kruti Dev 010 "/>
              </a:rPr>
              <a:t>ih;j 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Kruti Dev 010 "/>
              </a:rPr>
              <a:t>,twdsVj&amp;2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934320" y="4800600"/>
            <a:ext cx="1447560" cy="9144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Kruti Dev 010 "/>
              </a:rPr>
              <a:t>ih;j 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Kruti Dev 010 "/>
              </a:rPr>
              <a:t>,twdsVj&amp;4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876920" y="4648320"/>
            <a:ext cx="1371600" cy="99036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Kruti Dev 010 "/>
              </a:rPr>
              <a:t>ih;j 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Kruti Dev 010 "/>
              </a:rPr>
              <a:t>,twdsVj&amp;3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724280" y="2895480"/>
            <a:ext cx="0" cy="22860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1295280" y="4191120"/>
            <a:ext cx="2286000" cy="38088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3886200" y="4191120"/>
            <a:ext cx="533520" cy="30456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486400" y="4191120"/>
            <a:ext cx="533520" cy="38088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867280" y="3886200"/>
            <a:ext cx="2133720" cy="76212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Kruti Dev 010 "/>
              </a:rPr>
              <a:t>vkmVjhp fu;kstu ds rRoA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fp= }kjk LFkku dk n'kZuA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LFkku esa iathd`r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SW/MSM/IDU </a:t>
            </a: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dh la[;kA &amp;u;s ,oa NksM+s x;s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SW/MSM/IDU </a:t>
            </a: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dh la[;k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SW/MSM/IDU </a:t>
            </a: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dh la[;kA tks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GO/CBO </a:t>
            </a: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esa lnL; gSA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Kruti Dev 010 "/>
              </a:rPr>
              <a:t>&amp;</a:t>
            </a: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çeq[k LVsdgksYMj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Kruti Dev 010 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dUMkse fMiks dk LFkku] fDyfud ,oa LokLFk; f’kfoj {ks= rFkk vU; çeq[k lalk/kuA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Kruti Dev 010 "/>
              </a:rPr>
              <a:t>vkmVjhp Vwy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Kruti Dev 010 "/>
              </a:rPr>
              <a:t>vkmVfjp Vwy ds mn~ns’;</a:t>
            </a:r>
            <a:r>
              <a:rPr b="1" lang="en-US" sz="1600" spc="-1" strike="noStrike">
                <a:solidFill>
                  <a:srgbClr val="006666"/>
                </a:solidFill>
                <a:latin typeface="Kruti Dev 010 "/>
              </a:rPr>
              <a:t>  </a:t>
            </a:r>
            <a:endParaRPr b="0" lang="en-US" sz="16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76320" y="685800"/>
          <a:ext cx="8991360" cy="5743440"/>
        </p:xfrm>
        <a:graphic>
          <a:graphicData uri="http://schemas.openxmlformats.org/drawingml/2006/table">
            <a:tbl>
              <a:tblPr/>
              <a:tblGrid>
                <a:gridCol w="2361960"/>
                <a:gridCol w="2667240"/>
                <a:gridCol w="3962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mn~ns’;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ekid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Vwy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lEiZdks ls de ls de ,d ckj feysA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&amp;LFky fo’ys"k.k] 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&amp;lEidZ ekufp=] &amp;HkkSxksfyd ,oa lkekftd usVodZA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vkmVfjp ds xq.koRrk esa lq/kkj]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lHkh lEiZdks ls fu;fer feysA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&amp;;kSu dk;Z ds çdkj ds vuqlkj vkmVfjp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&amp;fuxjkuh] LFky vkj ekufp=] &amp;ekSle DysUMj@_rq &amp;{ks= çcy fo’ys"k.ak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63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lsok Lrj es lq/kkj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TI </a:t>
                      </a: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fDyfud mifLFkr] d.Mkse forj.k]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&amp;çkFkfedrk Js.kh] </a:t>
                      </a: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(Preference Ranking)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&amp;d.Mkse forj.k ds fy, ih;j ekufp=A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&amp;d.Mkse miyC/krk ,oa igqap ekufp=]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&amp; ih;j f’k{kk dkMZ] ih;j dSysUMj]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ih;j dk {kerk fuekZ.k lEiZdks ls de ls de ,d ckj feysA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çxfr ,oa dehZ;ks dh Lo;a fuxjkuh djsA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 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ih;j f’k{kk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ih;j dSysUMj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lHkh lEiZdks ls fu;fer feysA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lsokvks dk mi;ksxA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volj deh fo’ys"k.kA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Kruti Dev 010 "/>
              </a:rPr>
              <a:t>laokn vk/kkfjr lapkj.k ¼vkbZ-ih-lh½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6666"/>
                </a:solidFill>
                <a:latin typeface="Kruti Dev 010 "/>
              </a:rPr>
              <a:t>,u-,-lh-ih&amp;3 ,d &gt;yd</a:t>
            </a:r>
            <a:endParaRPr b="1" lang="en-US" sz="39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28600" y="990720"/>
          <a:ext cx="8763120" cy="5595840"/>
        </p:xfrm>
        <a:graphic>
          <a:graphicData uri="http://schemas.openxmlformats.org/drawingml/2006/table">
            <a:tbl>
              <a:tblPr/>
              <a:tblGrid>
                <a:gridCol w="1496880"/>
                <a:gridCol w="1712880"/>
                <a:gridCol w="1909800"/>
                <a:gridCol w="1710000"/>
                <a:gridCol w="1933560"/>
              </a:tblGrid>
              <a:tr h="1130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cpko]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j{kk] lgk;rk ,oa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mipkj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rduhdh çcU/ku lwpuk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{kerk fuekZ.k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mPp tksf[ke lewg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fuEu tksf[ke lewg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j{kk ,oa lgk;rk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fuxjkuh ,oa ewY;kadu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laLFkkxr çcyrk]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9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&amp;yf{kr gLr{ksi ifj;kstuk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&amp; ,l Vh vkbZ j{kk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&amp; d.Mkse dks c&lt;+kok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&amp; vuqdwy okrkoj.k]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&amp;jDr lwj{kk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&amp;</a:t>
                      </a: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,l Vh vkbZ j{kk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&amp; ,dkd`r ijke’kZ ,oa tk¡p] ih-ih-Vh-lh-Vh ds lkFk]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&amp; vkbZ-bZ-lh- ,oa lkekftd tqM+ko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&amp;</a:t>
                      </a: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esuLVªhfeax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&amp;,-vkj-Vh-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&amp; ,p-vkbZ-oh&amp;Vh-ch-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&amp; iksLV ,Dlikstj çksQhysfDll]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&amp; voljoknh laØe.k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HIV</a:t>
                      </a: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 lsufVuy losZysl]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&amp; 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O;ogkj </a:t>
                      </a: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losZysl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&amp; 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fuxjkuh ,oa ewY;kadu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&amp; fØ;k vuqlU/kku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&amp;Msidw]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&amp;rduhdh &amp;vUos"k.k lewg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&amp; </a:t>
                      </a: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ekuo lalk/ku dk ukdks@lSdl ,oa ftyk ij c&lt;+kokA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&amp;çf’k{k.k fØ;kvks dks c&lt;+kokA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Kruti Dev 010 "/>
              </a:rPr>
              <a:t>vkbZ-ih-lh- D;k gSA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varoS;fDRkd lEizs"k.k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PC </a:t>
            </a: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lans’k ls vf/kd gSA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,d nwljs ls lEcU/k ds }kjk] laokn ,oa eq[; ijkorZuA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&amp;leqnk; lnL;ks dks lgk;dA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TI/HIV</a:t>
            </a: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 tksf[ke ?kVkus esa ck/kk;sa igpkukA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bu ck/kkvks dk fo’ys"k.kA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Kruti Dev 010 "/>
              </a:rPr>
              <a:t>buds fuokj.k gsrq mik;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Kruti Dev 010 "/>
              </a:rPr>
              <a:t>jksdFkke es vkbZihlh dh Hkwfedk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01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IPC</a:t>
            </a:r>
            <a:r>
              <a:rPr b="0" lang="en-US" sz="4400" spc="-1" strike="noStrike">
                <a:solidFill>
                  <a:srgbClr val="006666"/>
                </a:solidFill>
                <a:latin typeface="Kruti Dev 010 "/>
              </a:rPr>
              <a:t> dk 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TI </a:t>
            </a:r>
            <a:r>
              <a:rPr b="0" lang="en-US" sz="4400" spc="-1" strike="noStrike">
                <a:solidFill>
                  <a:srgbClr val="006666"/>
                </a:solidFill>
                <a:latin typeface="Kruti Dev 010 "/>
              </a:rPr>
              <a:t>?kVdks es volj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80773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Kruti Dev 010 "/>
              </a:rPr>
              <a:t> 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IPC </a:t>
            </a:r>
            <a:r>
              <a:rPr b="0" lang="en-US" sz="4400" spc="-1" strike="noStrike">
                <a:solidFill>
                  <a:srgbClr val="006666"/>
                </a:solidFill>
                <a:latin typeface="Kruti Dev 010 "/>
              </a:rPr>
              <a:t>lkapk vka¡[k ls vk¡[k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143000" y="1674720"/>
            <a:ext cx="701028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IPC </a:t>
            </a:r>
            <a:r>
              <a:rPr b="0" lang="en-US" sz="4400" spc="-1" strike="noStrike">
                <a:solidFill>
                  <a:srgbClr val="006666"/>
                </a:solidFill>
                <a:latin typeface="Kruti Dev 010 "/>
              </a:rPr>
              <a:t>lkaps ds ?kVdA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HIV </a:t>
            </a: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fo"k; %tksf[ke ?kVkus es ck/kk;s] jksx fo"k;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</a:t>
            </a:r>
            <a:r>
              <a:rPr b="1" lang="en-US" sz="2800" spc="-1" strike="noStrike">
                <a:solidFill>
                  <a:srgbClr val="006699"/>
                </a:solidFill>
                <a:latin typeface="Kruti Dev 010 "/>
              </a:rPr>
              <a:t>fof/k;k</a:t>
            </a: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 &amp;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PC </a:t>
            </a: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mRrsftr djus dh çfØ;k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lgtudkS’ky &amp; lgh laokn dks c&lt;+kok rFkk ppkZ uk fd dsoy lans’k nsuk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lnkpkj ,oa joS¸;k &amp; mPp tksf[ke ds lkFk dk;Z djus ds fy, mi;qDr joS¸;k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ifj;kstuk çk:i &amp; ifj;kstuk dk dkjxj ,oa {kerk’khy vk;kstu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ruti Dev 010 "/>
              </a:rPr>
              <a:t>&amp;fuxjkuh ,oa nLrkosthdj.k ifj;kstuk çfØ;kvks dks lq/kkjs ,oa lh[k ckVsA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42800" y="-360"/>
            <a:ext cx="816768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IPC </a:t>
            </a:r>
            <a:r>
              <a:rPr b="0" lang="en-US" sz="4400" spc="-1" strike="noStrike">
                <a:solidFill>
                  <a:srgbClr val="006666"/>
                </a:solidFill>
                <a:latin typeface="Kruti Dev 010 "/>
              </a:rPr>
              <a:t>fof/k;k¡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457200" y="838080"/>
          <a:ext cx="8229600" cy="5776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5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çdkj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IPC 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fof/k;k¡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vuqdj.k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lqjf{kr vkpj.k]tksf[ke lewg ds lykgdkj]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fLFkfr;k¡ ]ekjxksfyl pØ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n`'; izfrfuf/Ro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js[kkfp=]xzSfiQVh]'kkjhfjd ekufp=k.k]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I;kj dh ftnaxh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vkjs[k.k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;g ,slk D;ksa gS=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pØk pØ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ekufp=k.k rFkk oxhZdj.k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,p vkbZ oh lsokvksa dk uD'kk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LFky fdruk tksf[ke okyk gSA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dgkfu;k¡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,d vrajky ds lkFk dgkuh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Kruti Dev 010 "/>
                        </a:rPr>
                        <a:t>tksf[ke lewg dgkuh dFku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Kruti Dev 010 "/>
              </a:rPr>
              <a:t>lkjka’k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 </a:t>
            </a:r>
            <a:r>
              <a:rPr b="1" i="1" lang="en-US" sz="4400" spc="-1" strike="noStrike">
                <a:solidFill>
                  <a:srgbClr val="006666"/>
                </a:solidFill>
                <a:latin typeface="Kruti Dev 010 "/>
              </a:rPr>
              <a:t>,u-,-lh-ih&amp;3%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2666880" y="3276720"/>
            <a:ext cx="3429000" cy="6858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Kruti Dev 010 "/>
              </a:rPr>
              <a:t>yka{ku ,oa HksnHkkoA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828800"/>
            <a:ext cx="2133720" cy="6094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Kruti Dev 010 "/>
              </a:rPr>
              <a:t>ykHk laxzg.k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2133720"/>
            <a:ext cx="1676520" cy="9144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Kruti Dev 010 "/>
              </a:rPr>
              <a:t>;qok ,oa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Kruti Dev 010 "/>
              </a:rPr>
              <a:t>fd’kksjkoLFkk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Kruti Dev 010 "/>
              </a:rPr>
              <a:t>dks dsUnzhdj.kA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4191120"/>
            <a:ext cx="1600200" cy="76176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Kruti Dev 010 "/>
              </a:rPr>
              <a:t>mPp tksf[ke lewg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Kruti Dev 010 "/>
              </a:rPr>
              <a:t>dk ifjiw.kZA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76720" y="4724280"/>
            <a:ext cx="2361960" cy="76212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Kruti Dev 010 "/>
              </a:rPr>
              <a:t>d.Mkse ç;ksx</a:t>
            </a:r>
            <a:r>
              <a:rPr b="1" lang="en-US" sz="1800" spc="-1" strike="noStrike">
                <a:solidFill>
                  <a:srgbClr val="006699"/>
                </a:solidFill>
                <a:latin typeface="Kruti Dev 010 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781680" y="4800600"/>
            <a:ext cx="1752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00800" y="3962520"/>
            <a:ext cx="2133720" cy="76176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Kruti Dev 010 "/>
              </a:rPr>
              <a:t>ftyk ,oa miftyk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Kruti Dev 010 "/>
              </a:rPr>
              <a:t>dk vdsUnzhdj.kA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29400" y="2362320"/>
            <a:ext cx="1905120" cy="6858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Kruti Dev 010 "/>
              </a:rPr>
              <a:t>mipkj lsokvk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Kruti Dev 010 "/>
              </a:rPr>
              <a:t> </a:t>
            </a:r>
            <a:r>
              <a:rPr b="1" lang="en-US" sz="1800" spc="-1" strike="noStrike">
                <a:solidFill>
                  <a:srgbClr val="006699"/>
                </a:solidFill>
                <a:latin typeface="Kruti Dev 010 "/>
              </a:rPr>
              <a:t>dk QSyko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09:51:39Z</dcterms:created>
  <dc:creator>pp</dc:creator>
  <dc:description/>
  <dc:language>en-US</dc:language>
  <cp:lastModifiedBy>nss</cp:lastModifiedBy>
  <dcterms:modified xsi:type="dcterms:W3CDTF">2009-11-16T08:15:24Z</dcterms:modified>
  <cp:revision>94</cp:revision>
  <dc:subject/>
  <dc:title>jk"Vªh; ,M~l fu;a=.k laxBu ¼ukdks½ </dc:title>
</cp:coreProperties>
</file>